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EEAF-B655-4395-97C3-88EB251BF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EBA4-F807-47F4-86ED-6A551D73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926EB-3C5B-4C35-B3E6-37E59B01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284FB4-5FDD-49C1-88B5-52EE48B1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46FF9C-2329-4016-9132-8FD69C80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A43DE1-35A6-423A-89D9-4CDEB69B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7633A9-0698-459A-B84C-33D87BFE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07C483-C808-44C3-ADB8-E428EBB4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83ED1A-129A-4051-A2FE-4CBC72F2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0B211-F502-4082-99A1-A3F44DBAC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AFCEFC-312E-41D7-A539-ED9724BFF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DF146C-9CCC-40C2-8B52-EFEE0D7CD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3C58-454C-4683-A25D-34BA585F9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CF73C-9D92-4D74-837E-1E0DC624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65C1C4-2DC3-428D-A271-20FF7BEB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45398F-7126-42D6-A13D-0E6131D8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994EDA-9D8D-4E9E-AF0A-F602A5EE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26757D-DC22-49D5-B5F3-F21AE1B2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8180F9-852C-446A-B594-3A8C55B1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FDD35-75C8-4E76-B787-A952FB66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078DA6-3A8B-4B8A-8EFE-C1564852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86A89-B1C8-4402-8A0B-A446DB54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3AA9AA-AA54-4157-9041-BA4DF6703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4AF3-A0E6-4A91-96C7-50E9120F8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1DED91-43C8-4C7C-A07B-CC694279B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9EC55-0C75-44CC-BB96-556D7DCE6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3E6B3-E76A-4592-A839-35B39DC2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AE417D-6200-4E56-9FDB-23255DA8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4EDD2-7209-4AF5-991B-E619555A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AD5CE-DDC4-4CD4-AA55-57D416CC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3F006-E4D0-4D82-925E-8AB3D9E2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82CBA-8B88-42CE-ACE4-03D9FAC3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1AB5-871E-4941-9C84-D64848CA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BA544-4DEC-4D9A-A997-156020BA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00BC8-BE65-4AB0-A7F0-A2DCB13B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6DF3D-8EE1-4AC9-A6AA-95896FF9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1F98E-48EB-43F4-B03A-305EF7593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73365-EEEA-4218-AD26-81FEB7AFA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D6DEE-B89C-46BE-8F5E-9246F34ED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7D0CD-403A-40DD-82BB-E1398C7F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38B25-ED63-401C-876B-2B006ECD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C8EF5-E5C0-4C6E-BC84-DD13D8F7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64C5D-0BE3-47BE-ACD4-2EF85A80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C5A7-4353-4E74-A04F-0085A109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1F6B4-2840-4EE3-BAD3-DE1D4138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2E644-030A-4EFC-A051-FC381C5A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DB284-3697-4BCD-B639-A9C3EAB7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2883F-106E-4101-AFDB-61A72993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6A398-65CE-426D-A15B-31FAC113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132B5-EAB1-4082-B1D6-CEE600A94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E367B-B94B-49DB-8392-5D5A49735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4CA3E6-4A55-4AB0-A955-8D45FA27F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9EAC7E-5BAB-4BB5-9A4E-4F359F75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633D9A-B866-4511-BD1B-16209BB9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AA2E-87B3-43A0-AD5F-0D0F45CE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0487D8-09D4-4A8E-B8E2-05A22254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6C4B5A-9BEC-41B8-99C1-5174D844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4B4B91-F7D5-4BF7-843E-21C8AFF5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6FB664-6E35-4D6D-9DE0-4A8C7CFA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B193BD-1DF4-4772-87B4-F8E17BB8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0DD9B1-0215-4044-8D0B-18622234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03A7B7-7627-4EAB-83BA-3F0830EB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8BE403-71DF-4B32-BEEE-987B1C108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0F506F-7A48-43B8-A4B5-9CB95075B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B54855-BF00-404C-A883-3BBA0F56E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9373-DE57-466E-92CF-6B0E0002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F8294B-FC10-472F-8505-B35FDAEF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48C39B-6CE0-4C13-8CD3-1DED32F8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C35817-2129-4B51-A92B-C38C220A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610C02-1DFC-4726-8FE5-28CC974F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B80DE7-369D-4E1E-9025-FBA7464A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930174-EF5C-4E1D-B155-0CA33D23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919FB7-D7B9-4CCB-B605-79DE05F8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12E403-00CD-4E45-B912-95C48A6A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2FBEE0-C525-437F-B203-CA67C246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389BF7-E9C6-4723-B0E1-EE3B5FF0F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D69B-FB71-4E2C-BA40-DACBEAA9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F27A1D-81D1-481C-8104-149D10CB0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BC6B1-D75E-4B66-A12C-4CD371CC1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58357-C86C-4660-96AD-C80D98BC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5D641-F7B8-45BC-8878-B1263DF6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C7FB7-FDFA-4B0E-B481-A12CF341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5C0E2-0F81-49F2-ABE2-F0B15CC8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9BFA3-B474-49D5-8843-59F1FCF1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082A0-C311-4B6A-B68C-8ACEF06B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2B86E-3E9E-46EB-AA47-47D88E91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F658C-A698-4F9F-8BFE-A2F220FB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57FF-CB87-48C5-9567-06F60A19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E874C-8FCF-4712-996D-E61AF0C5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95A98-9114-4D1C-A6C8-EE8CEED83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C7B15-9275-4533-9516-EC223E2F5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5FBD9-751F-41B2-B77F-9A4984172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90938-E42E-43A7-8813-9029F372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4986E-BE90-480F-A8D7-225CCACC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46B02-9F94-45EC-971A-B018CCE7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52527-A7A8-48BA-BD2F-3E81A43D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817D6-989E-40DE-AE36-5B93F7A3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54995-2EF3-4C73-9C22-3A3EB1C7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B6E8-AA31-4548-907C-C92E6B57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EE791-1D4E-42C1-8A7E-346BD9D4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02C7A-A58E-481F-BD94-74B931B0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90B51-22C8-4FE6-AB9E-EEED4C67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B3416-5F09-4067-A468-4060168D3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1FA24-8ABB-4F20-BB7A-90698B8C9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395C7-9FFD-4CE3-BC79-0F0E3A31E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7FDC1-62D2-41C1-8F3D-447B77E4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89331-7874-4A93-950C-A3855A6C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A195D-FFE4-4D87-89EC-460C3D73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E5983-219B-423A-BB88-E18A3E83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8BD0-52F0-4BD5-A2C4-8619A887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687DF-CECA-48BC-93AF-0AA3D5D4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173EF-6B03-48DA-A0ED-F52B75E1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D7EAC-962C-40D7-AA8D-B0850FB6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AC904-D90C-4B0C-8E15-C8F84366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3327F-9907-4D8B-881F-86009D35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75A3C-FEA1-41FE-88BE-2121AE414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F5CF6-8F21-46C3-AC24-1C6368303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1293B5-D718-422D-912C-CF0E07F5A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B62852-F03A-448D-B5C2-2C38BC8B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86038B-EB3C-42FC-84B4-B0B091D9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CEBB-DF10-4FB2-BBD7-3CFF539B8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23" name="PlaceHolder 1"/>
          <p:cNvSpPr>
            <a:spLocks noGrp="1"/>
          </p:cNvSpPr>
          <p:nvPr>
            <p:ph type="dt" idx="2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7C0D-B0BC-419C-8C15-E2C5B8F32F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D9B1-D592-4992-826E-62E3B8ABA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87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89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9DCF-955D-4E2F-9ADA-C180CA43F9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44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48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50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5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FAD9-992D-44BB-9258-B30012DFED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0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1F57-4DC1-4637-B1F4-A572D2567CB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68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D9AF-42C3-43B1-BDEB-E599F53AA1C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30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31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34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37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340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44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7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6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87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9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5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02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7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09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2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5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8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1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4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25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7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0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31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3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6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9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2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7FAA-F359-4B32-8979-A74D7217F17A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506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07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510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511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15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16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8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19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1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522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4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25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7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28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3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34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6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37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9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40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2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43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5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46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8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49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1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52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4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55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7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58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0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61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3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64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6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67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9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70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1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2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73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5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76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78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80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81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2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3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84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5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6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87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8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9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90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1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2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93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4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5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96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7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8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99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1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602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3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4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605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6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7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608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9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0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11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2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13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2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3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624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7A6E-5C64-46CB-BF0D-EE598CFEC7A5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679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8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dt" idx="25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 type="sldNum" idx="27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8291-AFCA-4C82-820B-199383FD0E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My personal learning profile by Antonio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27432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It’s important to learn how your brain works becaus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know how the brain works you can use your mind to do more things like exercises and you can learn a lot m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I can use what I have learned about the way my brain works in school. I can do this when I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049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learn how your brain work doing your job or doing a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My learning style i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sual lear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at means that I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o what you need to do at that momen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y learning technique i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rete ran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 found out that my left hemisphere of the brain i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weaker than my right si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the right hemisphere of my brain is my stronger side of my brain and I use it mo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5:47:43Z</dcterms:created>
  <dc:creator>noah</dc:creator>
  <dc:description/>
  <dc:language>en-US</dc:language>
  <cp:lastModifiedBy>noah</cp:lastModifiedBy>
  <dcterms:modified xsi:type="dcterms:W3CDTF">2010-11-23T16:13:16Z</dcterms:modified>
  <cp:revision>3</cp:revision>
  <dc:subject/>
  <dc:title>Antonio Power point</dc:title>
</cp:coreProperties>
</file>